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B266-F512-4CDF-A30A-684DD9CF4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85AA-C343-4383-8AAC-12AD5BED8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B357-6BBB-4628-9162-4B795DC200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1E58F-C60F-45F9-954B-9B29042E3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265A-0C80-44B7-A384-7BD10E1F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52FA0-4261-49FB-BF56-C8D2C4963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A66EC-FABB-4765-99BB-1D694DCC7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BADFD-1D50-4C45-8C85-E1AA35D7A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0971-E868-4D65-8D9E-9CD474A3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6EB9-B9D3-44D3-9967-081064B8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B8455-5F8F-45BF-988B-3B7E56E5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A502-69FC-4E7F-A944-37B1E948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1CC60-743A-4CA2-9759-319EB390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8083-60B2-4E78-833B-2A73548D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7D60-EDAD-4F06-8439-12F1BA2FD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F654-087D-4428-BAB2-342B9A6C56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5624-5559-48E7-B159-7A50EA8A82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7</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F63F-2921-48BD-9D14-FF1E71D0FE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emperature-VC table</a:t>
            </a:r>
            <a:endParaRPr b="0" lang="en-US" sz="4400" spc="-1" strike="noStrike">
              <a:solidFill>
                <a:srgbClr val="e3ebf1"/>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EDFF-3462-4BCC-8C5B-1A3B92B915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56" name=""/>
          <p:cNvGraphicFramePr/>
          <p:nvPr/>
        </p:nvGraphicFramePr>
        <p:xfrm>
          <a:off x="1523880" y="2057400"/>
          <a:ext cx="6096240" cy="3260880"/>
        </p:xfrm>
        <a:graphic>
          <a:graphicData uri="http://schemas.openxmlformats.org/drawingml/2006/table">
            <a:tbl>
              <a:tblPr/>
              <a:tblGrid>
                <a:gridCol w="2032200"/>
                <a:gridCol w="2031840"/>
                <a:gridCol w="2032200"/>
              </a:tblGrid>
              <a:tr h="665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emperature (˚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emperature (˚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Vapor capacity (g/k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2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4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0.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4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32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50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2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68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37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3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86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40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104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6699"/>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bl>
          </a:graphicData>
        </a:graphic>
      </p:graphicFrame>
      <p:sp>
        <p:nvSpPr>
          <p:cNvPr id="57" name="TextBox 6"/>
          <p:cNvSpPr/>
          <p:nvPr/>
        </p:nvSpPr>
        <p:spPr>
          <a:xfrm>
            <a:off x="365400" y="5791320"/>
            <a:ext cx="671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hese values are valid only near sea-level, and have be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odified or rounded for convenience.  Don’t use for actual computatio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69A3-7215-4298-8853-700A98C363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22:12:38Z</dcterms:created>
  <dc:creator>Robert Fovell</dc:creator>
  <dc:description/>
  <dc:language>en-US</dc:language>
  <cp:lastModifiedBy>Robert Fovell</cp:lastModifiedBy>
  <dcterms:modified xsi:type="dcterms:W3CDTF">2017-08-16T01:30:35Z</dcterms:modified>
  <cp:revision>124</cp:revision>
  <dc:subject/>
  <dc:title>L7 - Moisture</dc:title>
</cp:coreProperties>
</file>